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89CA-FC0D-4492-8F2C-DC04DD70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4F4A-D3E2-4741-955E-1D8D14F8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DB49-1ADF-4651-9BB8-76E81200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1139-F64A-409B-A804-14AF5C2E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3ADE-9E02-4EC1-8893-199542B5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2F89-B260-4A17-B840-A75F9CA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0FD5-104D-4C1E-9268-C5A5F05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FC9-6724-49AA-A5A3-6ED22DD8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CE7-AA0F-4565-A3DC-544E81FA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DE5A-F68A-4A96-AC22-D404496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176-E14A-47B8-84F6-5345FD0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F866-68F1-4AE1-899F-61685A4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39D6-E256-445A-B1DA-DA6C7AA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82D1-7CD1-4FBF-818B-C388BF4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13C7-E57E-41EA-AC5D-1804E78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0760-0579-4AAA-95D1-4B01105A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020-8FC4-4E1D-A8BE-89C8A132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FABF-774C-41B8-BDB1-B3DFC83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E54C-AD95-4CE5-96FD-0C8CD65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DFD1-12CF-41F7-8335-7222858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66EF-D5C2-431D-9193-BEA6E804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BD83-9525-4447-95B6-95DE696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BE37-E0AB-4825-A288-2E953F3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0598-0C75-4A20-B6A6-787E007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EF87-EA86-4F7D-9001-B29F726D12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972-D8E8-4C2E-9E9C-DF1A68FD79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ON NOË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crit par: Mélanie P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29800">
            <a:off x="6300720" y="98064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20307600">
            <a:off x="0" y="1341000"/>
            <a:ext cx="2955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souper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i bien aimé le souper de noël. J’y ai mangé de la dinde, de la tourtière et même de la bûche de noël. Un vrai dél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2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réveillon de noë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sommes allés passer le réveillon chez mes grands-parents. Mon père a joué de la guitare et ma mère a chanté des chansons. Nous avons tous dansé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90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lendema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À notre réveil, ma grand-mère avait préparé un brunch et tout le monde a mang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, nous nous sommes habillés chaudement et nous sommes allés glis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ous avons eu beaucoup de plaisir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3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temps du rep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ès les festivités, j’en ai profité pour me reposer un pe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840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tour à l’éco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t, je suis reposée et je suis de retour à l’école pour vous enseig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103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41:45Z</dcterms:created>
  <dc:creator>STI</dc:creator>
  <dc:description/>
  <dc:language>en-US</dc:language>
  <cp:lastModifiedBy>STI</cp:lastModifiedBy>
  <dcterms:modified xsi:type="dcterms:W3CDTF">2007-11-19T19:58:01Z</dcterms:modified>
  <cp:revision>8</cp:revision>
  <dc:subject/>
  <dc:title>MON NOËL</dc:title>
</cp:coreProperties>
</file>